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8C08-78D5-42AD-9FAC-9EABB6E4C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A3C0-E028-418C-80A2-B8E06B346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16B-9CD5-4F3F-A947-116C1CF1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E24-23A3-40ED-9AC5-19E09B90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B75-818B-4EDC-8E48-123CA39E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B61-1397-43A2-B37F-C240B49C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665E-1CA8-4B86-9924-111BE383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4EEE-CD5A-477F-8DBE-637A5D8C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423-CACD-4D8C-9A9D-EC5C655F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419-84D2-4639-A2D2-5D893D7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8A76-2B19-42F1-9F92-154CADE4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0A91-9930-4758-9A30-C0D8F436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8F46-CFBF-47D4-8714-07F208A0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552-872A-47F3-894E-B9D94BA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1019-CA29-4591-AA82-0B76479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6018-C4D7-4C1A-8643-334825B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2262-565F-4637-BB38-B06C9E2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913C-939D-4106-82BE-B1411305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04FC-DC63-4CEF-93A1-B136BB6A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6A1FD8-39CE-43ED-9718-137FD034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D2483-971B-42DD-8FDA-479A9401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CE074-D057-41B8-944D-E57D9AD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15627-2662-4FC3-A9B8-012D859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4FDE2-D95C-4270-9AC9-DE7391E7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735-B027-48A4-B007-2E5592FE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B28DD-C507-4E95-A93A-242EB16F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A3CCF-AE66-4DB6-8699-9045CA2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090D0-7FEC-4BB9-BA1B-A70221B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58999-F980-4DE7-BFE5-F8977433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0B5BD-34F0-4292-9B52-9DEFE84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B671E-A158-4F18-B805-5394CBA7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A0F60-815A-4229-986C-0C061F0B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A1819-C5E8-4E36-A937-FB732A9C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49C0-2465-474F-89B6-0B5EC6E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CC45-0ED1-4060-8906-7B6379E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46E-5702-4D1F-A932-04F1A589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E17F-29BF-4C18-BBD7-07E7D435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4170-093A-42DD-BE18-2C74066F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E41CA-23E6-45CE-B9B3-2C8E058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F6A0-0EF2-4D31-B74B-C8BD5A6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CC8B-A0D4-4F9C-B47B-0CA47FC7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CC17-CFE5-4C5A-8FD3-53CCB8B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D5AF5-8C6D-4586-B2AC-FD27516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0E00-3BE2-4049-9914-1541FE05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3D4D-BC03-4253-975B-39773660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F41-6821-4E39-A4B2-B9C80376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574-0294-4D73-8130-7CFA0E56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1A6-5EE0-4FDA-9790-531D6BE4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DBF-2C0C-4D96-B64E-4E12DCD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110-35E7-439F-B39F-31DA0A01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D44-F0AC-4E6E-BD84-B837B2988477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2AD2-F123-4613-9467-B3C7270EDC9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569-AC8D-4E16-A79B-38BD941D96F6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CBA7-646D-4DA3-89A2-8E6FBEDABD42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12C9-BA4D-44DB-8D9E-50FC2B745EAF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32D-2E36-4182-BCE1-D01A574AE30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4513-3A4F-4B96-ABCE-29C009606406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404C-EE1F-453D-BE8B-C8C28649DEC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ural g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tt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a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re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etroleu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rea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min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ach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ste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n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s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Cotton drea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tend those words into a descriptive sentence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1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The fields of cotton dream of the fine clothing items it will someday becom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2: The act of dreaming is a human quality that was given to the cotton fiel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Write an accurate sentence that uses personification and explain the use of the literary dev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hoose one natural resource term from list A and one verb from list 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ve sentence about our natural resources using personific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ural g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tt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a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re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etroleu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rea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min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ach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ste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n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s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Coal remin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tend those words into a descriptive sentenc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1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The abiotic natural resource of coal reminds consumers to be energy efficien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e act of reminding is a human quality that was given to the natural resource 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Introduction to Agriculture, Food and Natural Resources students explain personification within their own written text about natural resources to communicate the effect of such literar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troduction to Agriculture, Food and Natural Resources, ITA 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scribe the major categories of natural resources in Americ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Describe local natural resourc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11.R.3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can analyze and explain literary devices within tex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cognize literary devices and communicate their effect within text: personific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ifica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iving human qualities to animals or objec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ample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The leaves whistled in the wind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 act of whistling is a human quality that was given to the leav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Write an accurate sentence that uses personification and explain the use of the literary dev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hoose one natural resource term from list A and one verb from list 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ve sentence about our natural resources using personific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tural g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tt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hea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re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etroleu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 B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ream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min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ach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iste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an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ook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d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s chosen: </a:t>
            </a:r>
            <a:r>
              <a:rPr b="0" i="1" lang="en-US" sz="2400" spc="-1" strike="noStrike">
                <a:solidFill>
                  <a:srgbClr val="3e3d2d"/>
                </a:solidFill>
                <a:latin typeface="Century Gothic"/>
              </a:rPr>
              <a:t>Water danc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tend those words into a descriptive sentence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1: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Lake Oahe’s water dances under the bright sunligh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swer Part 2: The act of dancing is a human quality that was given to the wate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Write an accurate sentence that uses personification and explain the use of the literary dev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hoose one natural resource term from list A and one verb from list 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e a descriptive sentence about our natural resources using personificatio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32:14Z</dcterms:modified>
  <cp:revision>90</cp:revision>
  <dc:subject/>
  <dc:title>South Dakota Ag Education</dc:title>
</cp:coreProperties>
</file>